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541-AF71-4BB3-A386-EA27EF2B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F55-864D-4ED5-AD19-F06056E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1AE-94A8-4AA4-9038-B14D6A3C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6EC-BD36-40C8-A21A-9A650436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BE23-33BC-48D0-82B7-AAF71180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7ADD-FBA1-416E-9076-DDADDFFF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54B9-42F3-44F2-8A7B-C597B177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02C-ADCE-406F-91A9-7417085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0466-9BD7-49B2-936A-EFF3BBA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609-D1BB-4616-8BE3-1E3093F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47A5-3610-4700-8E3D-E78ECA5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BED-592A-4991-855A-AF1B0E7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82FE-1081-4F69-BB01-177B457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263A-DF7C-47DB-B731-DF41E61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3BB2-C37A-48A0-B45C-839EFA88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D08-68DF-4D31-9E81-E3DEB2EC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B797-9236-444E-A044-28FF5CA6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C04-61BF-497B-A257-2F364C7E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401-C774-4A96-9A32-2E5C74E2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AE6-80E8-4C47-A1A4-EC3F366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104-22A4-4C4B-9B05-BEF654B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C8C-9BBC-4916-9332-1218FD0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E38-B710-405F-A982-FE9B261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B04-12C5-4983-AC63-1EE9101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9DB-514F-4935-A317-577FD8CE5E9F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                                                                                          </a:t>
            </a:r>
            <a:fld id="{5AB01202-05C7-4F98-9BD5-36D6E7BD5461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_Prozesse\_RD_BA_Prozesse\Presentations_RD_BA_Abteilung \ Allgemein RD BA \ BA Function RD und TPM_0605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996-8AF8-4595-B1AF-728CA6F1B9CF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52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2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eisungen_Prozesse_Handbücher\_RD_BA_Prozesse\Presentations_RD_BA_Abteilung \ BA Function Product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395440"/>
            <a:ext cx="8424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A Function – 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     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echnical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91080"/>
            <a:ext cx="5327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RD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24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3360" y="1308240"/>
            <a:ext cx="8486640" cy="3921120"/>
          </a:xfrm>
          <a:prstGeom prst="rect">
            <a:avLst/>
          </a:prstGeom>
          <a:solidFill>
            <a:srgbClr val="ccffff">
              <a:alpha val="2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0199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4.    R&amp;D Key Figures…….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688760"/>
            <a:ext cx="83595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10 R&amp;D Si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Europe:  Munich, Kamp-Lintfort, Aalborg (untill 31.05.06), Wroclaw, Manau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Asia:       Taipei, Hsinchu, Beijing, Suzhou, Indi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Ca. 2.000 R&amp;D Employee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Budget:   ca. 350 Mill. Euro (thereof ca. for 100‘ external order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Investment:      ca. 20 Mill.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Administration of  &gt; 2.000 external orders per year incl. handling of invoices and accrual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Europe:  60 current products, 100 predevelopments, 100 components,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                                              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20 Basic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Asia tbd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5720" y="549000"/>
            <a:ext cx="701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a0e66"/>
                </a:solidFill>
                <a:latin typeface="Times New Roman"/>
              </a:rPr>
              <a:t>Outline</a:t>
            </a:r>
            <a:br>
              <a:rPr sz="36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Department: BenQ Mobile RD BA / TPM BA</a:t>
            </a:r>
            <a:r>
              <a:rPr b="1" lang="zh-TW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1. Introduction and Organizational Embedding 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2. Task Description &amp; Responsibilities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3. Specific Challenges in CY2006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4. Department Key Data CY2006</a:t>
            </a:r>
            <a:br>
              <a:rPr sz="2800"/>
            </a:b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76440" y="981000"/>
            <a:ext cx="3735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981000"/>
            <a:ext cx="321480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58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Organizational Embedding (I/III)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1700280"/>
            <a:ext cx="1470240" cy="33400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1400" y="1941480"/>
            <a:ext cx="12495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Latin Americas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LA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hristian Hergenhan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21400" y="255276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a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EE BA)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erd Schwand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1400" y="318132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We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WE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Lars Win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1400" y="3792600"/>
            <a:ext cx="125100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PAC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rie Yeo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5480" y="5200560"/>
            <a:ext cx="11080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xport Control /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s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Thomas Diet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580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ales Ope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ntrolling (SO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tthew Good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26859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icing Office (PO)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Stomber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5800" y="333216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ategory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Roland Schmid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3957480"/>
            <a:ext cx="124956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er Car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CC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xel von Cam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mpliance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Jörg Wilhe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812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lanning &amp; Contro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Meix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0" y="27003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IT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ürgen Th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332748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rporate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eter Wistok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6320" y="396252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lfred Rä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028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Data Security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Ralph H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1038240"/>
            <a:ext cx="12477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Controlling 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"/>
              </a:rPr>
              <a:t>Lydia Som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91" idx="0"/>
          </p:cNvCxnSpPr>
          <p:nvPr/>
        </p:nvCxnSpPr>
        <p:spPr>
          <a:xfrm>
            <a:off x="5891040" y="1300320"/>
            <a:ext cx="2153520" cy="39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1"/>
            <a:endCxn id="98" idx="1"/>
          </p:cNvCxnSpPr>
          <p:nvPr/>
        </p:nvCxnSpPr>
        <p:spPr>
          <a:xfrm flipH="1" flipV="1" rot="10800000">
            <a:off x="3924720" y="2322000"/>
            <a:ext cx="11880" cy="627840"/>
          </a:xfrm>
          <a:prstGeom prst="bentConnector3">
            <a:avLst>
              <a:gd name="adj1" fmla="val -20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1"/>
            <a:endCxn id="99" idx="1"/>
          </p:cNvCxnSpPr>
          <p:nvPr/>
        </p:nvCxnSpPr>
        <p:spPr>
          <a:xfrm flipV="1" rot="10800000">
            <a:off x="3925080" y="2948400"/>
            <a:ext cx="11880" cy="648360"/>
          </a:xfrm>
          <a:prstGeom prst="bentConnector3">
            <a:avLst>
              <a:gd name="adj1" fmla="val 21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9" idx="1"/>
            <a:endCxn id="100" idx="1"/>
          </p:cNvCxnSpPr>
          <p:nvPr/>
        </p:nvCxnSpPr>
        <p:spPr>
          <a:xfrm flipH="1" flipV="1" rot="10800000">
            <a:off x="3924720" y="3596040"/>
            <a:ext cx="2520" cy="624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3" idx="3"/>
            <a:endCxn id="104" idx="3"/>
          </p:cNvCxnSpPr>
          <p:nvPr/>
        </p:nvCxnSpPr>
        <p:spPr>
          <a:xfrm>
            <a:off x="6627960" y="2963880"/>
            <a:ext cx="8640" cy="62928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4" idx="3"/>
            <a:endCxn id="105" idx="3"/>
          </p:cNvCxnSpPr>
          <p:nvPr/>
        </p:nvCxnSpPr>
        <p:spPr>
          <a:xfrm>
            <a:off x="6635880" y="3592440"/>
            <a:ext cx="2160" cy="634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3" idx="3"/>
            <a:endCxn id="102" idx="3"/>
          </p:cNvCxnSpPr>
          <p:nvPr/>
        </p:nvCxnSpPr>
        <p:spPr>
          <a:xfrm flipV="1">
            <a:off x="6627960" y="2322000"/>
            <a:ext cx="8640" cy="64224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7424640" y="441648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hina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uido Uhle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9680" y="1681200"/>
            <a:ext cx="3146400" cy="326052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Lydia So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360" y="2081160"/>
            <a:ext cx="3075120" cy="617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Research &amp; Development BA and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Technical Product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RD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Klaus Wingens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3160" y="279396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pply Chain Management and Strategic Procur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SCM/SP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Ingrid Jägerin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" y="351324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duct House BA A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H BA, As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ohann Gö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760" y="94608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1160" y="95256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1) located in Sao Paolo, Brazi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2) located in Taipe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3) located in Shangha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8360" y="40464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ffective April 1s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3200" y="957240"/>
            <a:ext cx="174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gional Management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981000"/>
            <a:ext cx="1871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4) as of 1st May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5) subordinated to Corporate Servic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6) subordinated</a:t>
            </a:r>
            <a:r>
              <a:rPr b="0" lang="en-US" sz="700" spc="-1" strike="noStrike">
                <a:solidFill>
                  <a:srgbClr val="3a0e66"/>
                </a:solidFill>
                <a:latin typeface="Arial"/>
                <a:ea typeface="文鼎中黑"/>
              </a:rPr>
              <a:t> to Audi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27600" y="4591080"/>
            <a:ext cx="12492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Quality Manag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Q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arlos Schm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3720" y="4581360"/>
            <a:ext cx="12492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BA &amp; Fin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gram Manager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atricia Högl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5" idx="3"/>
            <a:endCxn id="128" idx="3"/>
          </p:cNvCxnSpPr>
          <p:nvPr/>
        </p:nvCxnSpPr>
        <p:spPr>
          <a:xfrm flipH="1">
            <a:off x="6622560" y="4225680"/>
            <a:ext cx="13680" cy="619560"/>
          </a:xfrm>
          <a:prstGeom prst="bentConnector3">
            <a:avLst>
              <a:gd name="adj1" fmla="val -1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00" idx="1"/>
            <a:endCxn id="127" idx="1"/>
          </p:cNvCxnSpPr>
          <p:nvPr/>
        </p:nvCxnSpPr>
        <p:spPr>
          <a:xfrm flipH="1" flipV="1" rot="10800000">
            <a:off x="3924720" y="4220640"/>
            <a:ext cx="2520" cy="634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6" idx="0"/>
            <a:endCxn id="107" idx="1"/>
          </p:cNvCxnSpPr>
          <p:nvPr/>
        </p:nvCxnSpPr>
        <p:spPr>
          <a:xfrm flipH="1" flipV="1" rot="5400000">
            <a:off x="2982960" y="29520"/>
            <a:ext cx="371880" cy="291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7" idx="2"/>
            <a:endCxn id="97" idx="1"/>
          </p:cNvCxnSpPr>
          <p:nvPr/>
        </p:nvCxnSpPr>
        <p:spPr>
          <a:xfrm rot="5400000">
            <a:off x="4215960" y="1280880"/>
            <a:ext cx="751320" cy="1332720"/>
          </a:xfrm>
          <a:prstGeom prst="bentConnector4">
            <a:avLst>
              <a:gd name="adj1" fmla="val 31879"/>
              <a:gd name="adj2" fmla="val 117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7" idx="2"/>
            <a:endCxn id="102" idx="3"/>
          </p:cNvCxnSpPr>
          <p:nvPr/>
        </p:nvCxnSpPr>
        <p:spPr>
          <a:xfrm flipH="1" rot="16200000">
            <a:off x="5571360" y="1257480"/>
            <a:ext cx="751320" cy="1378800"/>
          </a:xfrm>
          <a:prstGeom prst="bentConnector4">
            <a:avLst>
              <a:gd name="adj1" fmla="val 31879"/>
              <a:gd name="adj2" fmla="val 1165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958360" y="1353960"/>
            <a:ext cx="10404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Executi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Project Man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John Longhi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07" idx="3"/>
            <a:endCxn id="134" idx="0"/>
          </p:cNvCxnSpPr>
          <p:nvPr/>
        </p:nvCxnSpPr>
        <p:spPr>
          <a:xfrm>
            <a:off x="5891040" y="1299960"/>
            <a:ext cx="588240" cy="5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115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/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44480"/>
            <a:ext cx="878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30760" y="1125360"/>
            <a:ext cx="4176720" cy="4896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125360"/>
            <a:ext cx="8364600" cy="4896000"/>
            <a:chOff x="539640" y="1125360"/>
            <a:chExt cx="8364600" cy="4896000"/>
          </a:xfrm>
        </p:grpSpPr>
        <p:sp>
          <p:nvSpPr>
            <p:cNvPr id="140" name=""/>
            <p:cNvSpPr/>
            <p:nvPr/>
          </p:nvSpPr>
          <p:spPr>
            <a:xfrm>
              <a:off x="554040" y="1125360"/>
              <a:ext cx="4176720" cy="489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1678320" y="3343320"/>
              <a:ext cx="4896000" cy="459720"/>
            </a:xfrm>
            <a:prstGeom prst="rect">
              <a:avLst/>
            </a:prstGeom>
            <a:solidFill>
              <a:srgbClr val="00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9440" y="1916280"/>
              <a:ext cx="5975280" cy="331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4878360"/>
              <a:ext cx="597708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internal interfacing depart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195600" y="3343320"/>
              <a:ext cx="4896000" cy="459720"/>
            </a:xfrm>
            <a:prstGeom prst="rect">
              <a:avLst/>
            </a:prstGeom>
            <a:solidFill>
              <a:srgbClr val="80008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440" y="1125360"/>
              <a:ext cx="836280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external interfacing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I/III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 – Internal / External 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396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00212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13048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A 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1304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1800" y="306540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2160" y="213372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TM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9800" y="307008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0006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M BA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9080" y="393372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3933720"/>
            <a:ext cx="115128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872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92360" y="3789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64000" y="378792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64000" y="2781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58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600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KP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844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16002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xternal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03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1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1200"/>
            <a:ext cx="8075520" cy="33130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Financial Controlling  (RD BA 1)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financial issues within all R&amp;D and TPM departments, li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rget setting for cost, H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mercial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sponsibility of all purchase orders (e.g. consultants,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a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culation of capacities (productive hours) and hourly rates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tion of cost center and department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udgeting, reporting, forecasting and controlling of all financial figures incl. deviation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ithin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st flow (e.g. invoices). Financial process administration (e.g. calculation of accru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Key User SAP Project System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2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052640"/>
            <a:ext cx="8558280" cy="3600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Project Controlling (Functional Controlling) RD B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project related issues within R&amp;D and Inter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Forecasting and budgeting of product projects, predevelopments, components and basic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ng, optimizing and redesigning of processes and value flow (e.g. accounting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s, consultants orders of SCM for R&amp;D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Controlling and Reporting (gap analysis and driving of measures, defining and driving productivity meas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or project related costs, transparency in controlling and repor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Administration of Projects within SAP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Operational product cost 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duct-cost related BA support of Ramp-up Team and Rea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BA Support product-specific EO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visions Management for supplier liabilities/special t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440" y="4797360"/>
            <a:ext cx="8558280" cy="12240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Overall Responsibilit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he Business Administrator is responsible for all financial and commercial aspects within its function (RD and TP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mpliance with internal and external rules and guidelines within the area of function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836640"/>
            <a:ext cx="8642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80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</a:rPr>
              <a:t>2.    Task Description &amp; Responsibilities         (3)</a:t>
            </a:r>
            <a:br>
              <a:rPr sz="2400"/>
            </a:br>
            <a:r>
              <a:rPr b="1" lang="zh-TW" sz="2000" spc="-1" strike="noStrike">
                <a:solidFill>
                  <a:srgbClr val="3a0e66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"/>
          <p:cNvSpPr/>
          <p:nvPr/>
        </p:nvSpPr>
        <p:spPr>
          <a:xfrm>
            <a:off x="3792600" y="1190520"/>
            <a:ext cx="23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6880" y="2089080"/>
            <a:ext cx="7733880" cy="3838320"/>
            <a:chOff x="596880" y="2089080"/>
            <a:chExt cx="7733880" cy="3838320"/>
          </a:xfrm>
        </p:grpSpPr>
        <p:sp>
          <p:nvSpPr>
            <p:cNvPr id="182" name=""/>
            <p:cNvSpPr/>
            <p:nvPr/>
          </p:nvSpPr>
          <p:spPr>
            <a:xfrm>
              <a:off x="596880" y="2089080"/>
              <a:ext cx="298440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caused by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000" y="2089080"/>
              <a:ext cx="318672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spend for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00280" y="2658240"/>
              <a:ext cx="1440" cy="28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2440" y="301428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incl. Investment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322740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1720" y="464904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1720" y="407988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2440" y="3866400"/>
              <a:ext cx="3324960" cy="4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ltant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25 %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2440" y="4435920"/>
              <a:ext cx="3324960" cy="63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scellaneous/Materia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55011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2440" y="521676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.g. special licenses, GP allocation etc.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2760" y="3368880"/>
              <a:ext cx="135000" cy="220428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57240 h 2204280"/>
                <a:gd name="textAreaBottom" fmla="*/ 2147040 h 22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6040" y="2658240"/>
              <a:ext cx="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39720" y="3227400"/>
              <a:ext cx="3191040" cy="248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&amp;D Pro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oduct projec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60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edevelopment / Componen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30 %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Basics, patents, License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10 %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ooling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153040" y="5925960"/>
            <a:ext cx="2378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Times New Roman"/>
              </a:rPr>
              <a:t>1) Cost for changes in tooling before M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82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Financial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500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Project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14640" y="1103400"/>
            <a:ext cx="1081080" cy="287280"/>
          </a:xfrm>
          <a:prstGeom prst="leftRightArrow">
            <a:avLst>
              <a:gd name="adj1" fmla="val 50000"/>
              <a:gd name="adj2" fmla="val 749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1557360"/>
            <a:ext cx="8207280" cy="3384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pecific Challenges in FY200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monization R&amp;D Controlling between PHE and PHA (e.g. planning, repor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arability of figure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R&amp;D cost target 250 Mill. Euro for European R&amp;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roduction and follow up of specific KPI‘s for Product Develop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e.g. measures for productivity improvement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urther automation of R&amp;D controlling by enhancing existing controlling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egration of RD BA + TPM BA into one controlling group to realize syner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nd cost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3.    Specific Challenges in FY2006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abine Boneberg</cp:lastModifiedBy>
  <dcterms:modified xsi:type="dcterms:W3CDTF">2006-05-24T12:53:13Z</dcterms:modified>
  <cp:revision>153</cp:revision>
  <dc:subject/>
  <dc:title>PowerPoint 簡報</dc:title>
</cp:coreProperties>
</file>